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0EA-6349-4195-8EB0-30E470C1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8AC-BBAF-4F24-8B7D-74CF0A88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5D3-03A1-4D9D-BD2D-DF401EB4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31D-5E16-44D0-A8F7-73381DA1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A15-0868-4870-89A0-A987B993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A8D-C3FE-410B-B9CC-A35D7C53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BBD-2601-457E-8A47-12375F24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E5F-AB2E-4353-86DE-EDC3807E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FC0-3E63-4D80-AD65-A84979FD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52D-9F7B-40F0-A4B4-B0AD3B62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984-ABE2-442D-AF97-20DD046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361-23D8-4935-B6A7-522B958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7F97-4423-46B1-AF36-D84405047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4400" y="990720"/>
            <a:ext cx="7602480" cy="4786920"/>
          </a:xfrm>
          <a:prstGeom prst="rect">
            <a:avLst/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Chronic Defici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Entitlement Crisi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or Health Financing Proble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Henry J. A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eorgia"/>
              </a:rPr>
              <a:t>Bruce and Virginia MacLaury Senior F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eorgia"/>
              </a:rPr>
              <a:t>The Brookings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6520" y="1082520"/>
            <a:ext cx="369648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A “monster at the doo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Georgia"/>
              </a:rPr>
              <a:t>Robert Samue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7720" y="130320"/>
            <a:ext cx="812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eorgia"/>
              </a:rPr>
              <a:t>The prevailing ‘expert’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271600"/>
            <a:ext cx="8001000" cy="1617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A fiscal cancer, “massive entitlement programs we can no longer afford, exacerbated by a demographic glitch that began more than 60 years ago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Georgia"/>
              </a:rPr>
              <a:t>David Wal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267080"/>
            <a:ext cx="7467840" cy="228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...a government in desperate trouble. It’s rai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taxes sky high, drastically cutting retirement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health benefits, slashing defense, education, and other critical spending, and borrowing far beyond its capacity to repa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Georgia"/>
              </a:rPr>
              <a:t>Laurence Kotlikoff and Scott B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990720"/>
          <a:ext cx="815328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1532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447920" y="304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Projections Really Show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04920" y="914400"/>
          <a:ext cx="838188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3818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413360" y="182520"/>
            <a:ext cx="65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Projections Really Show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2193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the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fiscal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 problem is entirely a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financ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85880" y="2728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The messag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68452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since taxes are assumed to remain a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share of GDP, projections show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no other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long-term budge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480" y="4818240"/>
            <a:ext cx="872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because public and private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spending move together,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there is als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private health care financing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0" y="0"/>
          <a:ext cx="9134640" cy="67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0"/>
                    <a:ext cx="9134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80" y="76320"/>
          <a:ext cx="913464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76320"/>
                    <a:ext cx="913464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680" y="76320"/>
          <a:ext cx="913464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76320"/>
                    <a:ext cx="913464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2220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Wingdings"/>
                <a:ea typeface="Wingdings"/>
              </a:rPr>
              <a:t>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The morals of this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There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is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a long term fiscal problem;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all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of it is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1213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There is no practical way to deal with public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spending other than by general health care financing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78280" y="2987640"/>
            <a:ext cx="91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3.  There is an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equally urgent private budget problem</a:t>
            </a:r>
            <a:r>
              <a:rPr b="0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stemming from increasing health care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470160" y="4038480"/>
            <a:ext cx="1045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4. These problems are important for three reasons: fiscal bal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consumption growth,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and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health care access and afford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2760" y="5410080"/>
            <a:ext cx="201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57240" y="2286000"/>
            <a:ext cx="81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2.  There is no entitlement crisis other than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5:37:19Z</dcterms:created>
  <dc:creator>haaron</dc:creator>
  <dc:description/>
  <dc:language>en-US</dc:language>
  <cp:lastModifiedBy>haaron</cp:lastModifiedBy>
  <dcterms:modified xsi:type="dcterms:W3CDTF">2007-04-11T18:59:01Z</dcterms:modified>
  <cp:revision>3</cp:revision>
  <dc:subject/>
  <dc:title>Slide 1</dc:title>
</cp:coreProperties>
</file>