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AE84-89AD-4968-8074-839A0CB78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E48B-091B-41B9-B4A9-3516FBEF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1B75-99A8-4862-9F87-79FC5DD7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B8E3-075F-4B60-A73E-9F3BEED4A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7781-731C-49E6-BF3E-5E38ED96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DE03-3551-41A4-8A13-3B803C1E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E1A00-F8B3-4614-AD22-9A047B2F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8771-92E3-46C0-ADBF-13607A67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DDBF-A782-48AB-8481-B21FDA32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09D3-91B2-4AFC-BB5F-F5CCAA17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3178-536A-4D94-B444-1B11F32D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F523-7B97-4F10-B0DB-ED04ED86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92FA-0C48-4F61-A174-D50EFC81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ED6C-4D7D-4BDD-BD23-D8A2F179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0F59-E189-4637-9753-D0BCA8D8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E502-D06F-4E8D-9352-8C45F23EC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C454-81CA-4416-8E41-6237B5672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3899-5018-48E2-8802-8B5F7EC3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7A41-E1DB-44DA-B7CA-1314D703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ACE5-CD6C-4744-873F-CCBC3D58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3FE4-88ED-4FE8-86AD-433B99E7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2509-2813-4E1B-8919-73C5FD57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1429-E015-4E7D-A870-0265909A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5EB9-66BB-43D8-A018-9E34518D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7D86-489A-4D70-B417-E7FFC48BF07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4A56-BF01-4D0F-AA96-1F1B2857146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94240" y="1255680"/>
            <a:ext cx="283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457200"/>
            <a:ext cx="761976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HE WORK-FAMILY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An Analysis of European, Japanese, and U.S. Work-Time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PI Briefing P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et C. Gornick, Alexandra Heron, and Ross Eisenbr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92280" y="3505320"/>
            <a:ext cx="3592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Presentation by Janet Gorn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May 24,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09480" y="4495680"/>
            <a:ext cx="762012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US workers spend exceptionally long hours at work each year.</a:t>
            </a:r>
            <a:br>
              <a:rPr sz="2000"/>
            </a:b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-- We “outwork” our counterparts across Europe and even in Japan.</a:t>
            </a:r>
            <a:br>
              <a:rPr sz="1800"/>
            </a:b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-- We work longer hours each week </a:t>
            </a: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and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 (even more so) more weeks per year.</a:t>
            </a:r>
            <a:br>
              <a:rPr sz="1800"/>
            </a:b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-- Are we productive? The US ranks 8</a:t>
            </a:r>
            <a:r>
              <a:rPr b="0" lang="en-US" sz="1800" spc="-1" strike="noStrike" baseline="30000">
                <a:solidFill>
                  <a:srgbClr val="3333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 in the OECD in output-per-worker-hour.</a:t>
            </a:r>
            <a:br>
              <a:rPr sz="1800"/>
            </a:br>
            <a:endParaRPr b="0" lang="en-US" sz="1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US parents are no exception.</a:t>
            </a:r>
            <a:br>
              <a:rPr sz="2000"/>
            </a:b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-- US fathers AND mothers have comparatively high employment rates.  </a:t>
            </a:r>
            <a:br>
              <a:rPr sz="1800"/>
            </a:b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-- US dual-earner couples with children work the longest hours: 81 on average. </a:t>
            </a:r>
            <a:br>
              <a:rPr sz="1800"/>
            </a:b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-- 2/3 of US dual-earner couples work, jointly, more than 80 hours per week.</a:t>
            </a:r>
            <a:endParaRPr b="0" lang="en-US" sz="1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33240" y="1600200"/>
          <a:ext cx="7877520" cy="45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240" y="1600200"/>
                    <a:ext cx="78775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0592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Workers in several other industrialized countries are protected by measures that limit working time, raise the quality and availability of employment with reduced-hour and flexible schedules, ensure compensated breaks to care for young children, and provide support for child care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143000" y="1676160"/>
            <a:ext cx="678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643"/>
                </a:solidFill>
                <a:latin typeface="Arial"/>
              </a:rPr>
              <a:t>A variety of policy levers are in place: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regulation of “standard work week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entitlements to paid days off (EU mandate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part-time parity measures (EU manda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rights to part-time and flexible 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643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family leave rights &amp; benefits (EU manda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early childhood education and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Public policy shapes workers’ weekly hours and annual work days. </a:t>
            </a:r>
            <a:br>
              <a:rPr sz="2000"/>
            </a:b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Regulated hours are a strong predictor of actual hours.</a:t>
            </a:r>
            <a:br>
              <a:rPr sz="1800"/>
            </a:b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-- US public policy sets a long work week, and is silent on paid days off. </a:t>
            </a:r>
            <a:br>
              <a:rPr sz="1800"/>
            </a:br>
            <a:endParaRPr b="0" lang="en-US" sz="1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763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07732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In the European Union countries, national measures require pay and benefit parity for part-time workers.  </a:t>
            </a:r>
            <a:br>
              <a:rPr sz="2400"/>
            </a:b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-- US law offers very few protections for part-time workers. 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-- In the US, many are poorly paid and receive no benefits.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880" y="205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Arial"/>
              </a:rPr>
              <a:t>COUNCIL DIRECTIVE 97/81/EC of 15 December 199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concerning the Framework Agreement on part-time wor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concluded by UNICE, CEEP and the ETUC THE COUNCIL OF THE EUROPEAN UN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Clause 1: The purpose of this Framework Agreement 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(a) to provide for the 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removal of discrimination</a:t>
            </a: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 against part-time workers and to improve the quality of part-time wor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(b) to facilitate the 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development of part-time work</a:t>
            </a: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 on a voluntary basis and to contribute to the flexible organization of working time in a manner which takes into account the needs of employers and work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Clause 4: </a:t>
            </a: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Principle of non-discrimin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1. In respect of employment conditions, 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part-time workers shall not be treated in a less favourable manner</a:t>
            </a: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 than comparable full-time workers solely because they work part time unless different treatment is justified on objective gr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2. Where appropriate, the principle of 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pro rata</a:t>
            </a: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 temporis shall app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07732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Several countries grant workers the right to alter their work hours; </a:t>
            </a:r>
            <a:br>
              <a:rPr sz="2000"/>
            </a:b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some grant workers the right to </a:t>
            </a: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request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 changes to their work hours.</a:t>
            </a:r>
            <a:br>
              <a:rPr sz="2000"/>
            </a:b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Some rights are limited to parents or caregivers.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Key example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99"/>
                </a:solidFill>
                <a:latin typeface="Arial"/>
              </a:rPr>
              <a:t>The gold standard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Sweden:  The Child Care Leave Act, 1978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643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8643"/>
                </a:solidFill>
                <a:latin typeface="Arial"/>
              </a:rPr>
              <a:t>(for parents with children under age 8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99"/>
                </a:solidFill>
                <a:latin typeface="Arial"/>
              </a:rPr>
              <a:t>And the so-called soft-touch la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The Netherlands: The Working Time Adjustment Act, 200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643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8643"/>
                </a:solidFill>
                <a:latin typeface="Arial"/>
              </a:rPr>
              <a:t>(10+ employe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Germany:  The Part-Time and Fixed-Term Employment Act, 200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643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8643"/>
                </a:solidFill>
                <a:latin typeface="Arial"/>
              </a:rPr>
              <a:t>(15+ employe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United Kingdom:  The Right to Request Flexible Working, 2002 (Employment Act amendment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643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8643"/>
                </a:solidFill>
                <a:latin typeface="Arial"/>
              </a:rPr>
              <a:t>(for parents and – since April 2007 – caregivers of elderly or disabled relative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(see, e.g., Hegewisch issue brief, 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07732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Public policy is a crucial vehicle for securing working parents time for caregiving, especially during children’s earliest years. </a:t>
            </a:r>
            <a:br>
              <a:rPr sz="2000"/>
            </a:b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-- US family leave policy is exceptionally meager.</a:t>
            </a:r>
            <a:br>
              <a:rPr sz="1800"/>
            </a:b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-- The lack of paid leave restricts American parents’ options. Many must choose between losing their pay or placing their newborns in child care.</a:t>
            </a:r>
            <a:endParaRPr b="0" lang="en-US" sz="1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763120" cy="475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Public policy influences parents’ ability to manage their time demands by providing early childhood education and care.</a:t>
            </a:r>
            <a:br>
              <a:rPr sz="2000"/>
            </a:b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-- US provides very little publicly-subsidized child care before kindergarten. </a:t>
            </a:r>
            <a:br>
              <a:rPr sz="1800"/>
            </a:b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-- The quality of private child care is highly variable and often poor. </a:t>
            </a:r>
            <a:endParaRPr b="0" lang="en-US" sz="1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7T22:14:06Z</dcterms:created>
  <dc:creator>Janet C. Gornick</dc:creator>
  <dc:description/>
  <dc:language>en-US</dc:language>
  <cp:lastModifiedBy>Chris Barbee</cp:lastModifiedBy>
  <dcterms:modified xsi:type="dcterms:W3CDTF">2007-05-30T15:23:19Z</dcterms:modified>
  <cp:revision>118</cp:revision>
  <dc:subject/>
  <dc:title>The Work-Family Balance</dc:title>
</cp:coreProperties>
</file>