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33E-42FA-43DB-8F5E-7F2EB793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BE8-08DB-472D-A02F-B7BB965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F02-D13E-48C8-B3C7-A4B4F88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EF8-2760-4CE3-A78E-00D6EEF9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7825-2464-4A91-A263-BD188289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D7EA-5E73-4946-93DF-F05CC461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E7C3-0234-42E0-AF02-3A4ED81C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48B1-7FB2-45AF-AC3D-D3E7728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E2CB-5BFA-476B-AFF0-27D5921D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F48E-642D-45F0-AEC1-2BDBEBD0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0B60-D9CB-4488-B0BB-AC8098D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9FD-467F-4E9C-9379-7E06CF2A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F93-3969-4A7B-9AF1-081E9F16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9B9-4F85-49FE-9451-34BAF783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70C7-68DC-4921-B578-AE6E3809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D04D-B186-4F04-8086-28473DA0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7091-5CA2-4E11-A242-9AF12A82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454-F9A9-432E-809B-2F14EDC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3D5-7A16-4571-92AC-F68C0CF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163-64A1-4D8F-A840-404E5C86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08B-8E02-44F6-ACC8-5E5588EB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877-ED0B-41C7-A578-73E6E74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B2C-2347-483C-BA31-CE10321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3EC-8E48-4717-A2AA-5C3D38E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59C1-0E56-47A9-BBEE-6B218F267C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9BB-BD4E-41F3-A23B-9F78A92254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4240" y="1255680"/>
            <a:ext cx="28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57200"/>
            <a:ext cx="76197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WORK-FAMILY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An Analysis of European, Japanese, and U.S. Work-Tim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PI Briefing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t C. Gornick, Alexandra Heron, and Ross Eisenb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92280" y="3505320"/>
            <a:ext cx="3592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resentation by Janet Gorn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ay 24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76201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US workers spend exceptionally long hours at work each year.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We “outwork” our counterparts across Europe and even in Japan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We work longer hours each week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nd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(even more so) more weeks per year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Are we productive? The US ranks 8</a:t>
            </a:r>
            <a:r>
              <a:rPr b="0" lang="en-US" sz="18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in the OECD in output-per-worker-hour.</a:t>
            </a:r>
            <a:br>
              <a:rPr sz="18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US parents are no exception.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fathers AND mothers have comparatively high employment rates. 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dual-earner couples with children work the longest hours: 81 on average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2/3 of US dual-earner couples work, jointly, more than 80 hours per week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3240" y="1600200"/>
          <a:ext cx="7877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1600200"/>
                    <a:ext cx="7877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orkers in several other industrialized countries are protected by measures that limit working time, raise the quality and availability of employment with reduced-hour and flexible schedules, ensure compensated breaks to care for young children, and provide support for child care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3000" y="167616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643"/>
                </a:solidFill>
                <a:latin typeface="Arial"/>
              </a:rPr>
              <a:t>A variety of policy levers are in place: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egulation of “standard work wee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ntitlements to paid days off (EU mand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art-time parity measures (EU mand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ights to part-time and flexible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643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family leave rights &amp; benefits (EU mand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early childhood education an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ublic policy shapes workers’ weekly hours and annual work days. </a:t>
            </a:r>
            <a:br>
              <a:rPr sz="2000"/>
            </a:b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Regulated hours are a strong predictor of actual hours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public policy sets a long work week, and is silent on paid days off. </a:t>
            </a:r>
            <a:br>
              <a:rPr sz="18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In the European Union countries, national measures require pay and benefit parity for part-time workers.  </a:t>
            </a:r>
            <a:br>
              <a:rPr sz="24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- US law offers very few protections for part-time workers. 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-- In the US, many are poorly paid and receive no benefits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COUNCIL DIRECTIVE 97/81/EC of 15 December 19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oncerning the Framework Agreement on part-time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oncluded by UNICE, CEEP and the ETUC THE COUNCIL OF THE EUROPEAN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lause 1: The purpose of this Framework Agreement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a) to provide for the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emoval of discrimination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against part-time workers and to improve the quality of part-time wor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(b) to facilitate the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evelopment of part-time work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on a voluntary basis and to contribute to the flexible organization of working time in a manner which takes into account the needs of employers and work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Clause 4: 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Principle of non-discrimin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1. In respect of employment conditions,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art-time workers shall not be treated in a less favourable manner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than comparable full-time workers solely because they work part time unless different treatment is justified on objective gr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2. Where appropriate, the principle of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ro rata</a:t>
            </a: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 temporis shall app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everal countries grant workers the right to alter their work hours; 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me grant workers the right to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changes to their work hours.</a:t>
            </a:r>
            <a:br>
              <a:rPr sz="2000"/>
            </a:b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me rights are limited to parents or caregivers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Key 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The gold standar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Sweden:  The Child Care Leave Act, 197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for parents with children under age 8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And the so-called soft-touch la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The Netherlands: The Working Time Adjustment Act,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10+ employe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Germany:  The Part-Time and Fixed-Term Employment Act, 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15+ employe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United Kingdom:  The Right to Request Flexible Working, 2002 (Employment Act amendmen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8643"/>
                </a:solidFill>
                <a:latin typeface="Arial"/>
              </a:rPr>
              <a:t>(for parents and – since April 2007 – caregivers of elderly or disabled relativ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Arial"/>
              </a:rPr>
              <a:t>(see, e.g., Hegewisch issue brief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ublic policy is a crucial vehicle for securing working parents time for caregiving, especially during children’s earliest years. 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family leave policy is exceptionally meager.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The lack of paid leave restricts American parents’ options. Many must choose between losing their pay or placing their newborns in child care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312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ublic policy influences parents’ ability to manage their time demands by providing early childhood education and care.</a:t>
            </a:r>
            <a:br>
              <a:rPr sz="20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US provides very little publicly-subsidized child care before kindergarten. </a:t>
            </a:r>
            <a:br>
              <a:rPr sz="1800"/>
            </a:b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-- The quality of private child care is highly variable and often poor. 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2:14:06Z</dcterms:created>
  <dc:creator>Janet C. Gornick</dc:creator>
  <dc:description/>
  <dc:language>en-US</dc:language>
  <cp:lastModifiedBy>Chris Barbee</cp:lastModifiedBy>
  <dcterms:modified xsi:type="dcterms:W3CDTF">2007-05-30T15:23:19Z</dcterms:modified>
  <cp:revision>118</cp:revision>
  <dc:subject/>
  <dc:title>The Work-Family Balance</dc:title>
</cp:coreProperties>
</file>