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52E39-1951-4AA1-8D47-FDBC9073F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4B893-71F0-4D55-9F34-6276A7C59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996A0-01BF-48AE-93ED-150AA63AF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223D2-0346-4AC1-8B50-69AAA6AF6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5E879-0E32-4972-9448-62B2BEE06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B6C39-9443-44ED-AEA9-0FD338882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F675D-342A-48E7-8811-03CFCD16F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A7499-AB9C-4E8B-9343-41C75011E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FF940-EEBA-401C-865F-3235AD8E4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0A883-0F16-4714-84EE-8DD60BD95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3A9E7-3E76-4024-94FE-4C3856656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88334-46F0-4BD6-8F40-0D3BD6AD9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6C183-C814-4D78-8E9F-CCB7F4DFB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2E8B5-B91F-4ADC-8637-25820E475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06538-63EB-4DF8-A192-BAB99E497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9DD3E-3E44-44E9-BDC1-79C1D809F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780B4-EE4F-401B-A430-3A4F4C253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618744-FF15-42EE-B0D2-536938AF7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80CEA-635F-437A-866F-A4E2AA140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3ED26-A7DE-4462-8309-0764F967A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DE9B8-2E1A-4187-9EE4-07418DBBD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41FF14-433F-4B0F-AFB3-E18968F32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7276A-E15E-4D37-81F0-55DD2A045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F5AF3-4A80-4888-AA3E-3021AF560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755F1-590B-4873-A969-7223A21E5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CFD9A-CA64-4467-B750-373C8D7AC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61651-5CDC-4D1B-B3A7-377B19F39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6F1DC-75BE-4DEC-8ABE-1D6CFAD47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3469A-5462-4311-8005-7DA9988DD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0DA349-3F01-464B-82BD-B0E92D96CD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A2702-0798-4854-AB68-C0F640C3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800CB-DD48-43D6-A2FE-BEE7942F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0959-4B37-4C6C-AD31-0ACD38320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82F3-B64A-4A88-9582-D1FC24E8F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8725-91AF-4D41-AF95-7338A0BBE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FEF8-84B0-4146-AC9A-95CBC4B74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D3E4-37BC-4FB3-9F64-E1D0C1CBC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816F-2AA5-4989-B7C0-304884651E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8B8E-B909-47CF-A0D3-7AEDA41A62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Work Supports, and Safety Nets</a:t>
            </a:r>
            <a:endParaRPr b="0" lang="en-US" sz="4400" spc="-1" strike="noStrike">
              <a:solidFill>
                <a:srgbClr val="e5ffff"/>
              </a:solidFill>
              <a:latin typeface="Tahoma"/>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ed Bernste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nda For Shared Prosperit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ct 2, 200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 1:</a:t>
            </a:r>
            <a:r>
              <a:rPr b="0" lang="en-US" sz="3200" spc="-1" strike="noStrike">
                <a:solidFill>
                  <a:srgbClr val="000000"/>
                </a:solidFill>
                <a:latin typeface="Arial"/>
              </a:rPr>
              <a:t> To ensure that for those who are willing and able, work is a pathway out of pover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rong labor dem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ork sup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bor market institutions (min wg, unions, labor stand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vitalize the nation’s safety net and social insurance systems so that when the market fails to provide for those who have made good faith efforts (or for those who are unable to do so), people do not fall into pri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sure counter-cyclic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380880"/>
          <a:ext cx="8382240" cy="6019920"/>
        </p:xfrm>
        <a:graphic>
          <a:graphicData uri="http://schemas.openxmlformats.org/presentationml/2006/ole">
            <p:oleObj progId="Excel.Sheet.12" r:id="rId1" spid="">
              <p:embed/>
              <p:pic>
                <p:nvPicPr>
                  <p:cNvPr id="130" name="" descr=""/>
                  <p:cNvPicPr/>
                  <p:nvPr/>
                </p:nvPicPr>
                <p:blipFill>
                  <a:blip r:embed="rId2"/>
                  <a:stretch/>
                </p:blipFill>
                <p:spPr>
                  <a:xfrm>
                    <a:off x="380880" y="380880"/>
                    <a:ext cx="83822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304920" y="457200"/>
          <a:ext cx="8458200" cy="6019920"/>
        </p:xfrm>
        <a:graphic>
          <a:graphicData uri="http://schemas.openxmlformats.org/presentationml/2006/ole">
            <p:oleObj progId="Excel.Sheet.12" r:id="rId1" spid="">
              <p:embed/>
              <p:pic>
                <p:nvPicPr>
                  <p:cNvPr id="132" name="" descr=""/>
                  <p:cNvPicPr/>
                  <p:nvPr/>
                </p:nvPicPr>
                <p:blipFill>
                  <a:blip r:embed="rId2"/>
                  <a:stretch/>
                </p:blipFill>
                <p:spPr>
                  <a:xfrm>
                    <a:off x="304920" y="457200"/>
                    <a:ext cx="84582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09480" y="457200"/>
            <a:ext cx="822960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457200"/>
            <a:ext cx="853416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2:17:06Z</dcterms:created>
  <dc:creator/>
  <dc:description/>
  <dc:language>en-US</dc:language>
  <cp:lastModifiedBy>Chris Barbee</cp:lastModifiedBy>
  <dcterms:modified xsi:type="dcterms:W3CDTF">2007-10-02T18:59:30Z</dcterms:modified>
  <cp:revision>6</cp:revision>
  <dc:subject/>
  <dc:title>Work, Work Supports, and Safety Nets</dc:title>
</cp:coreProperties>
</file>