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4E4B6-C70B-4E6D-91B9-5AE13BCDA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553C-9916-445F-A0E2-FEF97C8A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B9C42-528C-4C67-B4E8-E6578142A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989CE-8EE9-4B96-B372-8B472606C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8998E-BDA3-466D-BBEB-169373473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351F6-3361-4711-9291-105366A44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F5357-76CD-4786-84BA-419304206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0BE64-76A3-4C54-8CC3-424BBFA5B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DD8C0-92C8-4744-A454-211D82FEB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3408A-558C-4BB1-AD79-16BD29DBB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6FEED-0522-4EFB-9E23-7F002AB2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1BFF2-7B08-4A03-AFF9-E9272F46F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8F5C5-3D50-4EFD-9BE4-F1D2AD026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A5F96-780C-4609-BEF7-29BCE80D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631C2-E845-476F-9F6B-D30EC3A4A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46790-3A4D-4461-9B02-4831BD71C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9225D-6F58-4574-BEF0-732DFF26D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8CCC6A-F59E-4725-B62D-5E705E6605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073A2-790F-4EC0-9448-074CD549B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EACF3-2F67-44DB-9855-39DFEAF73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4D1ED-FD4C-48B0-8FA3-24D429398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CBAAD-A7B8-4AA3-8636-8D5B42213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7ACB-D634-4B9A-AE5D-90DD6E548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86082-3AC4-4DF9-8568-B86CD7251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B739D-B6A9-4AC4-BE01-E7AC9AC01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42E1C-DA69-471D-BB8A-5E6158A97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D37FC-F8D4-4E00-95C1-9A5AD3505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07610-159E-45ED-B131-F44E6A4CE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0B647-B3C3-40FA-9F5D-D8198B862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9E4013-40D8-409D-A9DF-A524672F9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73445-0C6B-4DC6-B87A-BA955DA80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87184-0EE2-4AC5-A799-2DDC78681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B44E0-A27B-43BB-B970-00F9A90F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361C-6895-46FC-B201-099176F58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E21A-DF34-4011-B5BD-7C808E3D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7823-8282-4336-82D1-6CA2871BC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9592-3E17-4A8B-8FED-6466FBB2C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7AF6-4888-4568-8C49-FD68FA7F43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809C-3C1A-4ED1-A69A-003A7980DC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Work Supports, and Safety Nets</a:t>
            </a:r>
            <a:endParaRPr b="0" lang="en-US" sz="4400" spc="-1" strike="noStrike">
              <a:solidFill>
                <a:srgbClr val="e5ffff"/>
              </a:solidFill>
              <a:latin typeface="Tahoma"/>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ed Bernste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nda For Shared Prosperit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ct 2, 200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1:</a:t>
            </a:r>
            <a:r>
              <a:rPr b="0" lang="en-US" sz="3200" spc="-1" strike="noStrike">
                <a:solidFill>
                  <a:srgbClr val="000000"/>
                </a:solidFill>
                <a:latin typeface="Arial"/>
              </a:rPr>
              <a:t> To ensure that for those who are willing and able, work is a pathway out of pover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trong labor dem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ork suppo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bor market institutions (min wg, unions, labor stand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kill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vitalize the nation’s safety net and social insurance systems so that when the market fails to provide for those who have made good faith efforts (or for those who are unable to do so), people do not fall into priv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sure counter-cyclic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380880"/>
          <a:ext cx="8382240" cy="6019920"/>
        </p:xfrm>
        <a:graphic>
          <a:graphicData uri="http://schemas.openxmlformats.org/presentationml/2006/ole">
            <p:oleObj progId="Excel.Sheet.12" r:id="rId1" spid="">
              <p:embed/>
              <p:pic>
                <p:nvPicPr>
                  <p:cNvPr id="130" name="" descr=""/>
                  <p:cNvPicPr/>
                  <p:nvPr/>
                </p:nvPicPr>
                <p:blipFill>
                  <a:blip r:embed="rId2"/>
                  <a:stretch/>
                </p:blipFill>
                <p:spPr>
                  <a:xfrm>
                    <a:off x="380880" y="380880"/>
                    <a:ext cx="83822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304920" y="457200"/>
          <a:ext cx="8458200" cy="6019920"/>
        </p:xfrm>
        <a:graphic>
          <a:graphicData uri="http://schemas.openxmlformats.org/presentationml/2006/ole">
            <p:oleObj progId="Excel.Sheet.12" r:id="rId1" spid="">
              <p:embed/>
              <p:pic>
                <p:nvPicPr>
                  <p:cNvPr id="132" name="" descr=""/>
                  <p:cNvPicPr/>
                  <p:nvPr/>
                </p:nvPicPr>
                <p:blipFill>
                  <a:blip r:embed="rId2"/>
                  <a:stretch/>
                </p:blipFill>
                <p:spPr>
                  <a:xfrm>
                    <a:off x="304920" y="457200"/>
                    <a:ext cx="84582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9480" y="457200"/>
            <a:ext cx="822960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457200"/>
            <a:ext cx="853416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2:17:06Z</dcterms:created>
  <dc:creator/>
  <dc:description/>
  <dc:language>en-US</dc:language>
  <cp:lastModifiedBy>Chris Barbee</cp:lastModifiedBy>
  <dcterms:modified xsi:type="dcterms:W3CDTF">2007-10-02T18:59:30Z</dcterms:modified>
  <cp:revision>6</cp:revision>
  <dc:subject/>
  <dc:title>Work, Work Supports, and Safety Nets</dc:title>
</cp:coreProperties>
</file>