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6012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652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69560" y="708120"/>
            <a:ext cx="4948200" cy="353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4280" y="4479480"/>
            <a:ext cx="5197320" cy="4241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652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D5DD30A-5F95-45C5-BC9A-D13F6C462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948200" cy="3535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4280" y="4479480"/>
            <a:ext cx="5197320" cy="424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eliminate the Dependent Care Tax Cr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3D1-C4A6-478F-9FEA-F545EA33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5AE-F6A6-4DC4-BF9A-9328E7C3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367-33AB-4E1A-B899-E1AC3A6E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B4F-5AB0-4662-B5A2-AC6629D0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B7A-4F46-4305-9478-6D189D27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260-F80D-46CD-8ABC-860A5533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7BF-C358-430A-A556-1D770677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CAC-CB18-4BB4-98C1-0E6730C2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609120"/>
            <a:ext cx="815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86C-BC74-45F4-89CA-74B760D1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25C-6066-47ED-BDE3-8DF37AE4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7CF-5C05-4B3E-AE50-EA5BDD96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294-3758-42DB-9896-426D2448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8160" y="6248520"/>
            <a:ext cx="3044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AA4B-C0D4-4718-AC66-46D1E5577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8799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Improving Work Supports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3657600"/>
            <a:ext cx="780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7383"/>
                </a:solidFill>
                <a:latin typeface="Georgia"/>
              </a:rPr>
              <a:t>Nancy K. Cau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7383"/>
                </a:solidFill>
                <a:latin typeface="Georgia"/>
              </a:rPr>
              <a:t>Deputy Director, National Center for Children in Pov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Georgia"/>
              </a:rPr>
              <a:t>Agenda for Shared Prosperity: Alleviating Pov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Georgia"/>
              </a:rPr>
              <a:t>Economic Policy Institute  •  Washington, DC   •   October 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2192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5834160"/>
            <a:ext cx="9601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The Need for R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8080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Most benefits are means-tested so as earnings increase, families begin to lose eligibility even though earnings are not yet adequ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In some cases, just a small increase in earnings can trigger a sharp reduction in benef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The result? Despite earning more, families may be no better off—or even worse off—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371600"/>
            <a:ext cx="82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Families who </a:t>
            </a:r>
            <a:r>
              <a:rPr b="1" i="1" lang="en-US" sz="2800" spc="-1" strike="noStrike" u="sng">
                <a:solidFill>
                  <a:srgbClr val="008080"/>
                </a:solidFill>
                <a:uFillTx/>
                <a:latin typeface="Georgia"/>
              </a:rPr>
              <a:t>do</a:t>
            </a: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 receive multiple benefits face  a parad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9720" y="1447920"/>
            <a:ext cx="82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9760" y="3352680"/>
            <a:ext cx="904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39720" y="533520"/>
            <a:ext cx="84009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Findin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Full-time work combined with public benefits should be sufficient to cover basic family expen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Earning more should always improve a family’s bottom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Funding for work supports should expand during economic downturns and be adequate to serve all eligible applica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Work supports should be efficiently administered and easily acce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Work supports should provide a bridge to the middle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295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Goals for a modernized work suppor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Findin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080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Earned Income Tax Credit (EI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Increase the maximum benefit for non-custodial parents and childless work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Extend benefits to younger workers (under 24) unless they are full-time stud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Reduce marriage penal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Increase benefits for larger fami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Child Tax Credit (C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Make the CTC fully refund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295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Specific policy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Findin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Child care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Guarantee access to child care assistance to low- and moderate-income families through the subsidy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Require the federal government to assume a larger share of the costs to reduce inequities across states and to ensure access during economic downtur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Eliminate the Child Care Tax Credit and use savings to: (1) expand child care subsidies, and (2) expand the CTC to provide additional child care benefits to both employed and stay-at-home par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295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Specific policy recommendations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Findin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Housing vou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Only a quarter to a third of eligible individuals and families receive assistance (about 2 mill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Double or triple the number of vouchers in circ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Increase incentives for public housing authorities to offer the homeownership option through the voucher program (e.g., provide  administrative funds to support start-up and implementation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Consider placing restrictions on the home mortgage interest deduction to fund an expansion of low-income housing assi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295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Specific policy recommendations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Findin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Food 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Eliminate the gross income test, which would eliminate the food stamp “cliff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Eliminate asset tests which make small amounts of savings a barrier to receiving benef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Transportation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Provide tax credits to subsidize the costs of commuting for low- to moderate-income work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Increase incentives for expanding mass trans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295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Specific policy recommendations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f8d"/>
                </a:solidFill>
                <a:latin typeface="Georgia"/>
              </a:rPr>
              <a:t>The Biggest Challenge: Political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We have to make the case that:</a:t>
            </a: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illions of Americans are working hard yet still not able to make ends m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n the absence of higher wages and better jobs, government has an obligation to help low-wage workers (especially those working full time) to at least get by, if not to get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f the American Dream is to live on, government needs to provide work supports while we empower workers (and others) to fight to turn “bad” jobs into “good” jo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295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Defining the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213372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A quarter to a third of US workers—35 to 46 million—hold low-wage jobs that provide few prospects for advancement and grow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Over a fifth of children in the US—16 million—live in low-income families despite having a parent who works full time, year 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Low-wage jobs typically lack benefits that higher-income workers take for granted: health insurance, paid sick leave, and retirement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447920"/>
            <a:ext cx="82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Too many low-paying 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Defining the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8080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NCCP’s Basic Needs Budgets, EPI’s Basic Family Budgets, and WOW’s Self-Sufficiency Standards all make the same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Families need an income of 1.5 to 3 times the poverty level to cover basic family n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253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$26,000 to $52,000 for a family of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253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$31,000 to $62,000 for a family of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447920"/>
            <a:ext cx="82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What it takes to make ends m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9720" y="1447920"/>
            <a:ext cx="82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9760" y="3352680"/>
            <a:ext cx="904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473040"/>
            <a:ext cx="853416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9760" y="3352680"/>
            <a:ext cx="904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39720" y="609480"/>
            <a:ext cx="848196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Defining the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440" y="2590560"/>
            <a:ext cx="8080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Government benefits can help low-wage workers make ends m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253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Earned income tax 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253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Child care as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253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Health insur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253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Housing assi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253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Food st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253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447920"/>
            <a:ext cx="82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“</a:t>
            </a: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Work supports” can help close the gap between low wages and basic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9720" y="1447920"/>
            <a:ext cx="82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9760" y="3352680"/>
            <a:ext cx="904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The Need for R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8080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Few families and individuals receive the work supports for which they are financially elig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Overall funding levels are inadequate and current funding mechanisms (e.g., fixed block grants and state matching requirements) also constrain benefit ac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Other access barriers: burdensome application procedures, complex rules and delivery systems, and lack of coordination among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2952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We need to expand access to work sup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The Need for R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440" y="2438280"/>
            <a:ext cx="8080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Work support benefits are often still accessed through welfare offices, which increases stigma and discourages ap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Single mothers and their children remain the primary recipients of work supports. Benefits for non-custodial parents, low-wage workers without children, and two-parent families are not widely available and tend to be less gener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2952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Work support programs are limited by  their association with welf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9:59:29Z</dcterms:created>
  <dc:creator>Nancy K Cauthen</dc:creator>
  <dc:description/>
  <dc:language>en-US</dc:language>
  <cp:lastModifiedBy>Chris Barbee</cp:lastModifiedBy>
  <dcterms:modified xsi:type="dcterms:W3CDTF">2007-10-03T15:14:12Z</dcterms:modified>
  <cp:revision>134</cp:revision>
  <dc:subject/>
  <dc:title>Making “Work Supports” Work Using the Family Resource Simulator to Improve Policy</dc:title>
</cp:coreProperties>
</file>