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91E-20AF-4D19-8EB3-C24B76C3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CE48-E567-4D7A-A9AF-F1D287AC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16E-6791-4FE5-9471-2054B53F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283-28EE-409C-8595-A919A4CC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513E-9F8C-4458-B9EE-B92A75F0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C252-AF4D-4ED4-9950-1C03BF4A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1210-729F-415E-B303-7DA954F9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3588-9E91-48F4-9090-35FC831F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D15A-8F8B-4608-BB61-71A487FD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53ED-4EDE-4BF4-A14D-DB523007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8237-8421-40FE-80EB-20432E32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E14-9F50-4109-BE2A-0FB22E0C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53CD-BF0C-43C5-8400-22A87859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74CA-5F56-4AA8-847C-654088DB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EF6C-2E8E-4D65-8AAF-C3287699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54C7-0444-4831-BAD0-F2272912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8775-B5AB-4A9E-BF78-1D5EE6F1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CC1C-AFA0-499B-A8B1-A8FBC85A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554-1721-4764-B9E6-9D5FADC4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4370-FD2F-441D-AC1D-A46FA004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1D7-53D0-45DC-B761-B367391D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068-F7C0-49E5-9A8D-15CFD893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550-038F-4FFA-A80D-DD27FF40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4395-5A02-436B-97F7-0D7047B7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05F0-F9D6-4A0E-B01F-0257DF0D5E2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E7A1-F9C1-4EB0-B5E1-D0BB8D45D4C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reno@nasi.org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Social Security: Building on Succ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November 20, 200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esentation for the Economic Policy Institut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Virginia P. Re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Vice President for Income Secu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National Academy of Social Insur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Vreno@nasi.org</a:t>
            </a:r>
            <a:r>
              <a:rPr b="0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Step: Refine Answers to the Right Ques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can we build on the strengths of Social Security – its fiscally responsible design, its universality, progressivity, efficiency, and effectiveness – to meet the needs of working families and retirees in the 2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entury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ey Point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Security is affordab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o’ benefits are modest, Social Security is seniors’ main source of incom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need for more adequate incom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ase for using Social Security to deliver it.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entury retir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 Security Is Affordab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nefits will increase from 4.3% of GDP today to 6.2% in 2030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nefits remain about 6.2 - 6.3% of GDP  through 2085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t growth – 1.9% of GDP -- is less than the increase in spending for education when boomers were children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04920" y="914400"/>
          <a:ext cx="853416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762120" y="6094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ocial Security Replaces Earning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Age 65 Benefits Compared to Past Earnings, 2007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6324480"/>
            <a:ext cx="67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2007 Trustees’ Report, p. 186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odest Benefits, Yet Main Source of Income for Senior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verage retired-worker benefit is $12,600 a yea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ocial Security is important for seniors across the income spectrum.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t is the main source of income for middle- and upper-middle-income seniors, as well as for low-income seniors.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-380880" y="609480"/>
          <a:ext cx="4038480" cy="30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609480"/>
                    <a:ext cx="403848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410080" y="609480"/>
          <a:ext cx="3934080" cy="301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609480"/>
                    <a:ext cx="393408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666880" y="1752480"/>
          <a:ext cx="4077000" cy="3133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1752480"/>
                    <a:ext cx="40770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0" y="3743280"/>
          <a:ext cx="3828960" cy="31147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3743280"/>
                    <a:ext cx="382896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638680" y="3666960"/>
          <a:ext cx="4114800" cy="319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38680" y="3666960"/>
                    <a:ext cx="411480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981080" y="22860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hares of Income from Specified Sources by Income Level, 2004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arried Couples and Unmarried Persons Age 65 and Older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eed for More Adequate Benef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lacement rates are l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.S. seniors are more likely to be poor than in other industrialized countries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Security will replace less of earnings at age 65 in the future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ployers are dropping DB pens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uild on Success: Social Security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vers almost everyone; por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sts for life, keeps up with cost of living, protects widowed spou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 family life insurance and disability protection; no leak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manent spons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ficient: $0.99 of every $1.00 paid in benefi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ers Need Both Insurance and Saving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social insurance, Social Security targets insured risks.  No “leakage” for other uses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vings accounts create expectations of choice, ownership, flexibility, bequests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1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entury Retirement Syste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adequate social insur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widespread voluntary savings on top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20:56:38Z</dcterms:created>
  <dc:creator/>
  <dc:description/>
  <dc:language>en-US</dc:language>
  <cp:lastModifiedBy>Chris Barbee</cp:lastModifiedBy>
  <cp:lastPrinted>2007-11-15T21:02:37Z</cp:lastPrinted>
  <dcterms:modified xsi:type="dcterms:W3CDTF">2007-11-21T18:59:32Z</dcterms:modified>
  <cp:revision>15</cp:revision>
  <dc:subject/>
  <dc:title>Social Security: Building on Succ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