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80B-070F-4919-AC6A-42CC9B22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B8F-5F03-4684-AFB3-0455556E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0D3A-7F92-4D7C-99A9-E5F61F33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6C7E-0EFF-4B7E-9BB2-518B3F45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25B4-F0FE-4E85-A0FF-0ACBE1DB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27C7-F1C0-4B3A-8786-32FB7D11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1BC4-5302-4288-809F-B44130B9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208F-E07A-4A93-B0F6-98F54055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855B-BDE7-4DBC-B96F-7C0B2D01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F0D0-8668-4700-8B17-CBA42EBC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4027-3DCC-4F6E-9791-25ED9BFF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D6F8-14B6-480A-B243-4ED1939E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77EF-30FB-489A-B4E6-23716BED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C965-2860-4C69-9D43-DAB7CE44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6E15-4ABF-4B56-AB94-99CA6E62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5ACF-D7CC-4CD3-8D1C-E53E16D9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D38D-606D-4D81-9031-F7AB7A0D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8295-423E-43D4-B7BC-9384198D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534-1047-49DA-80CC-1500C22C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6C17-D07E-444D-ABA3-7782BC65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8CDA-2D8F-49C7-B1E0-DFD89F4E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7E4D-D6C8-4B40-B073-D3682DAA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0A7A-E7B8-45BD-8FEB-5F06BADC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4E3B-DCBD-4D40-A872-63C4D2AB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AA00-2C78-4E24-9428-928A6A0B010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5981-68FC-4D37-B0FA-653375F6BD0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reno@nasi.org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Social Security: Building on Succ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November 20, 200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esentation for the Economic Policy Institut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Virginia P. Re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Vice President for Income Secu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National Academy of Social Insur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Vreno@nasi.org</a:t>
            </a:r>
            <a:r>
              <a:rPr b="0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Step: Refine Answers to the Right Ques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can we build on the strengths of Social Security – its fiscally responsible design, its universality, progressivity, efficiency, and effectiveness – to meet the needs of working families and retirees in the 2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entury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ey Point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Security is affordab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o’ benefits are modest, Social Security is seniors’ main source of incom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need for more adequate incom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ase for using Social Security to deliver it.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entury retir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 Security Is Affordab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nefits will increase from 4.3% of GDP today to 6.2% in 2030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nefits remain about 6.2 - 6.3% of GDP  through 2085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t growth – 1.9% of GDP -- is less than the increase in spending for education when boomers were children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04920" y="914400"/>
          <a:ext cx="853416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762120" y="6094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ocial Security Replaces Earning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Age 65 Benefits Compared to Past Earnings, 2007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6324480"/>
            <a:ext cx="67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2007 Trustees’ Report, p. 186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odest Benefits, Yet Main Source of Income for Senior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verage retired-worker benefit is $12,600 a yea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ocial Security is important for seniors across the income spectrum.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t is the main source of income for middle- and upper-middle-income seniors, as well as for low-income seniors.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-380880" y="609480"/>
          <a:ext cx="4038480" cy="30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609480"/>
                    <a:ext cx="403848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410080" y="609480"/>
          <a:ext cx="3934080" cy="301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609480"/>
                    <a:ext cx="393408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666880" y="1752480"/>
          <a:ext cx="4077000" cy="3133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1752480"/>
                    <a:ext cx="40770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0" y="3743280"/>
          <a:ext cx="3828960" cy="31147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3743280"/>
                    <a:ext cx="382896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638680" y="3666960"/>
          <a:ext cx="4114800" cy="319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38680" y="3666960"/>
                    <a:ext cx="411480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981080" y="22860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hares of Income from Specified Sources by Income Level, 2004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arried Couples and Unmarried Persons Age 65 and Olde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eed for More Adequate Benef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lacement rates are l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.S. seniors are more likely to be poor than in other industrialized countries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Security will replace less of earnings at age 65 in the future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ployers are dropping DB pens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uild on Success: Social Security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vers almost everyone; por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sts for life, keeps up with cost of living, protects widowed spou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 family life insurance and disability protection; no leak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manent spons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ficient: $0.99 of every $1.00 paid in benefi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ers Need Both Insurance and Saving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social insurance, Social Security targets insured risks.  No “leakage” for other uses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vings accounts create expectations of choice, ownership, flexibility, bequests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entury Retirement Syste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adequate social insur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widespread voluntary savings on top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20:56:38Z</dcterms:created>
  <dc:creator/>
  <dc:description/>
  <dc:language>en-US</dc:language>
  <cp:lastModifiedBy>Chris Barbee</cp:lastModifiedBy>
  <cp:lastPrinted>2007-11-15T21:02:37Z</cp:lastPrinted>
  <dcterms:modified xsi:type="dcterms:W3CDTF">2007-11-21T18:59:32Z</dcterms:modified>
  <cp:revision>15</cp:revision>
  <dc:subject/>
  <dc:title>Social Security: Building on Succ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