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F1F-4D74-4CD2-8FDF-FCFE2AA6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Electronics solar plant in Memphis—just lik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Electronics solar plant in Mem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Sharp electronics story : high road, sustainability, public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796-2195-4387-8A3D-220AB4A0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50B-623D-445D-BFFD-029FFB39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8A1-51F9-4AB3-A1DC-B2A5B47B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9DD-ABD3-4EA3-9369-FF710C05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C42-5A7C-4DC2-B807-D6980226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91B-81D6-438B-9595-77B7ED4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0E8-94E1-4D4A-9403-0E79BFD4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26C-5AC7-4693-9A61-BFE016C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7EB-3DD4-46E1-BAD8-BCC93BB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3C3-72CE-4C29-A7DD-5EA82F3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AA6-0606-48AC-8041-AFA5CD6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6B4-CFE8-44EC-8696-4F8FF1B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AC2-6C9E-4DE4-B4B8-E32092E9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tc.usf.edu/clipart/4700/4787/pie_1_lg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ing US Manufactur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ng a High-Road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an Hel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Western Reserv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stainability offers a big 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requires capability for innovations large and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pabilities are la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% of manufacturers report moderate to severe shortage of skilled production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% report moderate-to-severe shortage of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ing industry lost 1/3 of employees 2000-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Assn of Manufacturers; Center for Automo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-sid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“high-road”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wage workers make cost-effective, sustainable products for consumers and profits for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ed workers help plants introduce new products faster, handle more variety, and deliver “just in tim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improvement benefits from direct workers’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management reduces need for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road”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because things rarely go as pl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distributed information flow, understanding of context is 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many firms don’t adopt, or don’t maintain, due to market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&amp; demand for workers trained in problem-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tation to break promises for short-term 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policies can hel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the Manufacturing Extension Program (to $300 mill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“Full Utilization Learning Lean” (FUL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root causes of problems, just-i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to new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ill the program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 assista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lants achieve productivity of the be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s compete on basis of fast delivery, new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s understand the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underestimate hidden costs of offsh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S manufacturers can compete with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57200" y="1241280"/>
            <a:ext cx="6427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57200" y="1336680"/>
            <a:ext cx="64278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dden costs of off-sh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-shoring reduces wages of direct lab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usually only 5-15% of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ncreases other, hard-to-measure c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distraction (lost focus on innovation at h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risk from long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“handoff costs” btw US &amp; foreig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communication among design, engineering, and production hinders serendipitous disco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must be more clear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problems take longer to sol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time-to-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design as well as production may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proposal comes with a revenue stream to pay for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s for itself in increased tax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by a portion of carbon auction revenues, end to oil and gas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er than smoke-stack c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 of th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sadvantage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throw money at firms without quid pro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both production and distribution of the economic 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how inputs are mixed together, not just individua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ducation alone is not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 and D alone is not 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workers integral to production—not dispo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 Electronics in Memp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80: begins producing TVs, microw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s open after rivals forced out due to skill of workers,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2: moves all TV production to Mex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3: begins producing solar 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mulated by new energy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 of IBEW workers eased tran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8: 50% of workers make solar 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e the high r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sts of socially-beneficial actions th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polic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the low r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undercutting of socially-responsibl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labor and environmental rights in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poaching by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Consumer Product Safety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ize only firms that commit to high wage, high productivity, sustainable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ty versus Effici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irer economy can be a larger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3581280"/>
            <a:ext cx="27432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is sh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s for most Americans aren’t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can contribute to meeting key national 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s can compete with “high-road”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policy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harp illustrates situation of US manufa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w-wag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portun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illed work for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ing demand for sustain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 road” production recipe, in which workers, suppliers, and management work together to make innovativ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policy helps manufacturers achieve key national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can save manufacturing in a way that also creates a bigger economic pie, divides it more fairly, and protects the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is sh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s for most Americans aren’t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can contribute to meeting key national go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s can compete with “high-road”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policy can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is shr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 lost 16% of manufacturing employment 2000-20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4% more since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added fell 4% 2000-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if we correct for statistic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o Institute, Business Week 6/18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we care if mfg shrin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g capability can help meet n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, infrastructure,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can provide a career ladder for ordinary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million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 weekly wage: 20% &gt; economy-wide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extent manufacturing serves public purposes, it should receive public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should correct market failures, not provide unconditional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-sid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can help meet nation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energy, infrastructure, defense industri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fail to provide enough of thes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 Energy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of global warming: an historic opportunity to re-make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plays a ke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duction and in use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change terms of competition away from wages, toward creativity in energy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7:51:29Z</dcterms:created>
  <dc:creator>S. Helper</dc:creator>
  <dc:description/>
  <dc:language>en-US</dc:language>
  <cp:lastModifiedBy>Chris</cp:lastModifiedBy>
  <dcterms:modified xsi:type="dcterms:W3CDTF">2008-02-13T16:55:02Z</dcterms:modified>
  <cp:revision>23</cp:revision>
  <dc:subject/>
  <dc:title>Renewing American Manufacturing:  A High-Road Strategy</dc:title>
</cp:coreProperties>
</file>